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E22-BBC4-4FC6-ADCB-DC59412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C77-008D-4FE6-BB4B-D70CD375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57AC1-493E-4F51-972E-018CA523A7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6A8B7-7E76-400C-9F19-B14A141920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E1C9B-B277-4B2B-B96B-79CD15B41F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8C1DA-3A04-45E8-A75D-B59D664B49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59CBB-468A-4DBB-8AC6-C18A006C30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252C0-8125-45CD-A171-A62DF2E380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35933-FB7C-456B-9E07-77D0FBCBB79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BA1DE-D187-404E-8918-BFEDD89D88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9C802-31F7-434E-AFFD-15D3F79F78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DF0C5-A1E2-4C69-9AD7-3C38A8B3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88C-14B2-4386-BDFE-D83E7310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EC6A1-8F1C-42BC-A641-69BD176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B44FA-EC27-4956-BA2D-6D771AC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41E64-87B4-46DF-BCD5-DCE108F0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9FDAC-54A7-4A54-AB65-2070906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B2F11-D269-4DAF-B187-90E82B42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02F5A-FE6F-4B56-BD74-D699602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B84A9-CCB3-4265-B319-39040E9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2BAFA-40D8-4ED8-BC70-08C5F54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B5343-F585-46F7-9E1B-D28A7C0A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33D1D-7221-4232-B152-ADEB6F64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AF8-B316-4895-B113-043E5F96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06558-02EB-4E58-9CF9-2ECCD89D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8DF3EF-6293-4683-ACD2-9283FDD9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F177BD-42A2-4701-9ED3-BD0B9C6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6529CC-BA9D-4C5C-878F-DA365781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B0BAAB-1495-4CB7-8AF1-ECBC6CD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8ECE05-B317-48AD-AA49-B20D3A3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62765C-DFE6-4246-929F-D22AB560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7E8FA5-B52B-4D65-9AA9-FA28307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EA6D2E-FA14-4BC3-B872-35A9818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48513F-1AB5-4A27-B5B4-B7C1A21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4F77-A4A9-43C5-9C6F-17CB8B6E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3C875D-146B-46CC-A01B-972F8FCB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900358-A969-4151-A15C-F80CAF19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43453D-FC65-459B-9685-E9A2D23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B70DC-116C-4E1F-85B9-519DAF5A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8C77F-B5D5-43B2-9704-4CC97811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2D695-35B7-4156-A577-54765C5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BED48-D2FB-44A5-9B4A-D78C5BEA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6EB66-B152-434C-A268-C3EB32F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EB409-4BF5-4618-82AD-ED8C45A6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EA201-3805-4C3E-8A9B-5ED5375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7F08-E450-44F8-9087-407E7F0F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F6E09-371A-4683-BF75-8646459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2CEAA-CC49-4244-A558-CB10D1FC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D4BBC-853F-4E01-AEEA-D9E5F2B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B2E0F-8EB5-4B00-A380-2388E1B8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AB1FA-90C1-480D-B09E-E45AA21F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E39743-2239-4DAD-86D0-C2998AFB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EBA8D5-4F70-46B4-B2AE-02E55F9A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5843E7-DA04-4044-9302-A2ADA5C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F883C5-1A22-4E15-86C8-7A2BBAE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8EEEB1-39B8-432F-9126-B8101359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DDDD-61A7-4B33-A39A-5A6161EC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CFE9CF-52BA-4FFC-A5E6-E7D2355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87B505-DAED-4AC2-81F6-93C299D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8EF6AF-1597-4A7B-B1E8-E79EB8C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558C44-92F4-4358-BE8F-37E5FBA8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AF2BE6-3179-4A5E-83BA-67338998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CC6443-95F4-4BAE-9131-253884BA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6C45D2-29FD-4884-AE13-2DBADEF4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2232-2FAD-4D61-ACD3-1B34FC3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1BBF-F1A2-4C75-8152-EFC002A6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9D9A-790E-4088-BDE7-A505E82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BD97-9F07-4AC7-B97B-1A40337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90A-634B-44C8-BF4B-332E00E6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E160-B930-4CDB-B82F-ABD311DF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8FFA-7388-4AFA-8DC9-A33683F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FCF9-29A8-49BB-B41D-443DE3C9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3F19-377B-45A0-B091-5003C9C4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3406-F63C-4EF0-A01B-73D1B1B8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66C3-26BD-44D3-BAC8-DBBCC004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B27A-58DC-432A-93E3-5A6864D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3143-0586-4FBE-9D1E-A0FAFBE7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A4F8-06E8-4AAC-86E4-283549C5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AE1C-EEFC-4F85-94E8-4A76F47C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387-F420-412B-9F4D-47960DCA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C665-3BFF-4D53-8F2F-A2C06EA7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E392-E4F9-40CC-8FFE-B874842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FB54-4624-44F5-8C07-74B47DB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428A-60DC-42FF-8EB2-06996AC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8213-CB89-4D5D-BEFD-C82AD876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3757-1B9E-4633-A870-659247E7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0230-B77E-49BD-8405-F5A48428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4238-D09D-4698-B9F5-10AFA36B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D42E-7D1B-4C6E-9CC6-DF1CC51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4BC6-DCB0-41FD-8C85-CC657CA7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E20-E8E5-4BDE-9B72-8BCDAB92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6277-F205-4692-B9A4-1E726E5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72FF-EB54-473E-913B-1D8CDF67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F81D-E9CA-4FDF-AAE4-F644151F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CBA4-FDBA-4737-94D9-764F527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C860-C8D3-4AD2-9D8B-BAE2C22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C6B7-2914-4C60-9A3E-A20E441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BA41-F400-43EC-9375-3BA7C133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ABB8-2619-4750-A5EB-36EEE71F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E4BD-23E7-4147-816F-484BBF11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D4E85-FAB3-4B5D-A9B8-23778734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CDC-BD06-46F7-8860-4BEE0FE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BBB85-8F77-450F-BD7A-9B678692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BBF26-A49D-4F5D-BF44-B34DBD6A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EBA2B-C7E7-4EE4-B658-C900DF0D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7B79F-0A9F-45A7-8B15-78937FF1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FD891-A238-4484-8188-6132E2E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981A4-4864-4F5E-9E28-ED89690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7544C-6AA4-4C7F-BE80-D9D487C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A5D3E-4A1E-4A17-9758-E13428E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5F794-C958-4A5D-A13B-E46B1D54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8A8A4-68DF-4E80-B759-D8C6B14C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5E8-363E-4247-B32F-AFF3693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F117D-9383-475F-8D63-1CA4A8F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DB8D-387D-47E2-8B60-873DD1D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2305-0D5B-4404-8750-511E6323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F50C0-8D00-4028-9D05-DA18C77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62D62-662B-4733-B15E-D1B4FB44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EB16-BD7E-4B03-8AAC-28635F7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9950A-D120-4BD4-84A0-D8E9224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B725-388B-483E-A5F9-AEEE858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5FF5-2425-4DCA-AEC8-E70D199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DCA4-F21A-4307-B63F-C10591B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A91-F296-4FC5-8815-249819FE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B19FD-44EB-4DCD-86CB-68BBE465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7149-1A53-4DBB-855E-FB0B45DC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BBC6-8397-46E5-9697-0DBD2415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8CCD-AE77-41E7-A8D2-A7ED0884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DD13-C3BE-41A8-B8F1-B1950B0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7CEDB-EFFE-4AFC-BB01-96EA92DD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5807-F823-4726-986F-D68C2A5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4DE6-0463-42EC-96D0-A7762F33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5F8D-E768-40A9-ADAD-C5CCB82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7F84C-3D4F-4710-BAEB-87B4B86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EEC-8B00-432D-8CFA-A285861E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2AA7-2D23-48DF-BDA7-4527A09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ABC3-FCB1-48CA-AF7A-EAB1E0C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1EAA-B1CF-4383-B60A-853A573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29F1-C450-45D1-9890-B2A83085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DA86A-FFCC-4163-B972-C6215C87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3B45-B40E-4C5E-BB92-4D287530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25B43-8169-4898-AF76-7AC834A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D93B-FFB5-416C-8269-6ABEB15E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778A3-DD6A-4A0F-AA9F-7D694E3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E222-4BF6-43F4-A144-D7D2F26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098-48EE-4495-93E7-71A0B04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E4DD1-9F90-44BD-B09B-2F0CED35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2472-5D1F-424F-A576-7C0C2C0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3CF8B-319C-4103-9981-BDD6D0B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C8BEF-0222-4F94-A4F6-65DA344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9060-0394-44AE-B5F2-E3D0648F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92EF-8C17-46FD-9556-08A536A0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0ECFF-86AF-4C45-8737-B45D9A16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BB012-BE73-4279-8DF4-9143980C82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B547C-E55C-42C6-893F-2FA122510D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5ED14-105E-4908-8F1C-AEDE8110F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8D0F-5D20-4747-9C5A-637826295691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71080" y="6206400"/>
            <a:ext cx="5054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643-87DE-4BAC-86F3-0E86077E3D14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1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12 Imagen" descr="LogoITH_Trnas copia.png"/>
          <p:cNvPicPr/>
          <p:nvPr/>
        </p:nvPicPr>
        <p:blipFill>
          <a:blip r:embed="rId2"/>
          <a:srcRect l="14306" t="21423" r="14306" b="14306"/>
          <a:stretch/>
        </p:blipFill>
        <p:spPr>
          <a:xfrm>
            <a:off x="142920" y="6000840"/>
            <a:ext cx="714240" cy="6429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1C64-6FE5-4A81-94B4-A82F3DE36C26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8"/>
          </p:nvPr>
        </p:nvSpPr>
        <p:spPr>
          <a:xfrm>
            <a:off x="348480" y="6206400"/>
            <a:ext cx="30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3A0-44BA-41A2-B3FC-B50036E8B720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11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2 Rectángulo"/>
          <p:cNvSpPr/>
          <p:nvPr/>
        </p:nvSpPr>
        <p:spPr>
          <a:xfrm>
            <a:off x="68400" y="4740120"/>
            <a:ext cx="9007200" cy="49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14 Imagen" descr="LogoITH_Trnas copia.png"/>
          <p:cNvPicPr/>
          <p:nvPr/>
        </p:nvPicPr>
        <p:blipFill>
          <a:blip r:embed="rId2"/>
          <a:srcRect l="14306" t="21423" r="14306" b="14306"/>
          <a:stretch/>
        </p:blipFill>
        <p:spPr>
          <a:xfrm>
            <a:off x="142920" y="6000840"/>
            <a:ext cx="714240" cy="64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C35-C92D-4CD2-89BB-0D730307021C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348480" y="6206400"/>
            <a:ext cx="30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B1D-EC40-4A04-9C04-7AACEBAA5CAA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9 Imagen" descr="LogoITH_Trnas copia.png"/>
          <p:cNvPicPr/>
          <p:nvPr/>
        </p:nvPicPr>
        <p:blipFill>
          <a:blip r:embed="rId2"/>
          <a:srcRect l="14306" t="21423" r="14306" b="14306"/>
          <a:stretch/>
        </p:blipFill>
        <p:spPr>
          <a:xfrm>
            <a:off x="142920" y="6000840"/>
            <a:ext cx="714240" cy="6429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B7AB-A6BB-49B5-956B-924E40A6F901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348480" y="6206400"/>
            <a:ext cx="30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FE1-9B54-416D-9855-68A46026DBDF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9 Imagen" descr="LogoITH_Trnas copia.png"/>
          <p:cNvPicPr/>
          <p:nvPr/>
        </p:nvPicPr>
        <p:blipFill>
          <a:blip r:embed="rId2"/>
          <a:srcRect l="14306" t="21423" r="14306" b="14306"/>
          <a:stretch/>
        </p:blipFill>
        <p:spPr>
          <a:xfrm>
            <a:off x="142920" y="6000840"/>
            <a:ext cx="714240" cy="6429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C9AF-84C5-40FB-83FD-4801394DD7E3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7"/>
          </p:nvPr>
        </p:nvSpPr>
        <p:spPr>
          <a:xfrm>
            <a:off x="348480" y="6206400"/>
            <a:ext cx="30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030B-3D0A-452D-99A3-87B0D93C682A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6BBE-8527-48AC-AD6C-4C1200166479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09C-AAEA-4815-B124-52F4A38E193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1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2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4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5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A60-FA9F-4EC2-BB48-F71D3C1262DE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318240" y="6206400"/>
            <a:ext cx="505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AE68-969B-4887-BCA1-95B135C46722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DF35-EC2E-46F9-9A8C-F3CCACBFD2C6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MX" sz="1100" spc="-1" strike="noStrike">
                <a:solidFill>
                  <a:srgbClr val="009900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100" spc="-1" strike="noStrike">
                <a:solidFill>
                  <a:srgbClr val="009900"/>
                </a:solidFill>
                <a:latin typeface="Perpetua"/>
              </a:rPr>
              <a:t>Informe de Rendición de Cuentas 20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273240" y="6193080"/>
            <a:ext cx="455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B2F5-B5C1-4D1B-B1AE-E2F876DABD4D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1 Rectángulo"/>
          <p:cNvSpPr/>
          <p:nvPr/>
        </p:nvSpPr>
        <p:spPr>
          <a:xfrm>
            <a:off x="63360" y="142920"/>
            <a:ext cx="9020160" cy="928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2 Rectángulo"/>
          <p:cNvSpPr/>
          <p:nvPr/>
        </p:nvSpPr>
        <p:spPr>
          <a:xfrm>
            <a:off x="63360" y="71280"/>
            <a:ext cx="9020160" cy="7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4 Rectángulo"/>
          <p:cNvSpPr/>
          <p:nvPr/>
        </p:nvSpPr>
        <p:spPr>
          <a:xfrm>
            <a:off x="63360" y="1000080"/>
            <a:ext cx="9020160" cy="11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8CB0-9EE0-495A-BBCF-7DE3089FA550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308160" y="6206400"/>
            <a:ext cx="4550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0D86-AE96-47EA-8669-0CFB9B03604E}" type="slidenum">
              <a:rPr b="1" lang="es-E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91404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ff"/>
                </a:solidFill>
                <a:latin typeface="EurekaSans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551-4FEA-44E4-B3FB-E55A9282910A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271080" y="6195240"/>
            <a:ext cx="5054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3B9-520F-43F1-824F-59DB0E2433CA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BAA5-4B05-417B-A847-919F1D007F77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281160" y="6195240"/>
            <a:ext cx="5562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9F5D-DE7D-4607-B4E5-2526CF7E7C77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3075-4D78-429E-AD1C-CA5522B2F243}" type="datetime">
              <a:rPr b="0" lang="es-ES" sz="1400" spc="-1" strike="noStrike">
                <a:solidFill>
                  <a:srgbClr val="696464"/>
                </a:solidFill>
                <a:latin typeface="Perpetu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96464"/>
                </a:solidFill>
                <a:latin typeface="Perpetua"/>
              </a:rPr>
              <a:t>Informe de Rendición de Cuentas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348480" y="6206400"/>
            <a:ext cx="30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8318-2089-45DD-BE35-C01F09B21721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0099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0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099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25"/>
          </p:nvPr>
        </p:nvSpPr>
        <p:spPr>
          <a:xfrm>
            <a:off x="237240" y="6170400"/>
            <a:ext cx="5558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2E5A-7C85-4A72-97C8-29C0C008178F}" type="slidenum">
              <a:rPr b="1" lang="es-E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2928960" y="242640"/>
            <a:ext cx="450072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urekaSans-Bold"/>
                <a:ea typeface="MS Mincho"/>
              </a:rPr>
              <a:t>INSTITUTO TECNOLÓGICO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urekaSans-Bold"/>
                <a:ea typeface="MS Mincho"/>
              </a:rPr>
              <a:t>DE HUEJUTL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0" name="1 Título" descr=""/>
          <p:cNvPicPr/>
          <p:nvPr/>
        </p:nvPicPr>
        <p:blipFill>
          <a:blip r:embed="rId1"/>
          <a:stretch/>
        </p:blipFill>
        <p:spPr>
          <a:xfrm>
            <a:off x="1785960" y="1530360"/>
            <a:ext cx="7072200" cy="1639800"/>
          </a:xfrm>
          <a:prstGeom prst="rect">
            <a:avLst/>
          </a:prstGeom>
          <a:ln w="0">
            <a:noFill/>
          </a:ln>
        </p:spPr>
      </p:pic>
      <p:pic>
        <p:nvPicPr>
          <p:cNvPr id="571" name="7 Imagen" descr="LogoITH_Trnas copia.png"/>
          <p:cNvPicPr/>
          <p:nvPr/>
        </p:nvPicPr>
        <p:blipFill>
          <a:blip r:embed="rId2"/>
          <a:srcRect l="8119" t="13525" r="8119" b="14871"/>
          <a:stretch/>
        </p:blipFill>
        <p:spPr>
          <a:xfrm>
            <a:off x="285840" y="1571760"/>
            <a:ext cx="1500120" cy="1282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2" name="13 CuadroTexto"/>
          <p:cNvSpPr/>
          <p:nvPr/>
        </p:nvSpPr>
        <p:spPr>
          <a:xfrm>
            <a:off x="2928960" y="621504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nstantia"/>
              </a:rPr>
              <a:t>Huejutla de Reyes, Hgo., 21 /Ene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10 CuadroTexto"/>
          <p:cNvSpPr/>
          <p:nvPr/>
        </p:nvSpPr>
        <p:spPr>
          <a:xfrm>
            <a:off x="285840" y="3214800"/>
            <a:ext cx="864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12 Imagen" descr="Fachada Limpia.jpg"/>
          <p:cNvPicPr/>
          <p:nvPr/>
        </p:nvPicPr>
        <p:blipFill>
          <a:blip r:embed="rId3"/>
          <a:stretch/>
        </p:blipFill>
        <p:spPr>
          <a:xfrm>
            <a:off x="212760" y="3359160"/>
            <a:ext cx="868212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2 Título" descr=""/>
          <p:cNvPicPr/>
          <p:nvPr/>
        </p:nvPicPr>
        <p:blipFill>
          <a:blip r:embed="rId1"/>
          <a:stretch/>
        </p:blipFill>
        <p:spPr>
          <a:xfrm>
            <a:off x="139680" y="115920"/>
            <a:ext cx="886464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8" name=""/>
          <p:cNvGraphicFramePr/>
          <p:nvPr/>
        </p:nvGraphicFramePr>
        <p:xfrm>
          <a:off x="0" y="1052640"/>
          <a:ext cx="9109080" cy="580536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56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EN. 2019-2023      Documentos a entregar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licitud del estudiante para la Titulación Integral (anexo XXXI)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ormato de Registro de Proyecto para la Titulación Integral (anexo XXXII)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nstancia de No Inconveniencia   expedida por Servicios Esco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uando el proyecto sea Revisado y Liberado, entregar el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ormato Liberación para Titulación Integral (anexo XXXIII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 (asignación de revisores solo aplica para tesis, tesina, entre otro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pia del Certific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pia de la hoja de No Adeudos. (económico, material o equi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Perpet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yecto en formato digital  (2 CD en pdf.) de acuerdo al anexo XXVIII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TA: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TREGAR PROYECTO Y SOLICITUD PARA ASIGNACION DE REVISO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 JEFE DE CARRERA:                                                                      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Perpetua"/>
                        </a:rPr>
                        <a:t>6-11 DE SEPTIEMBRE 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0000"/>
                          </a:solidFill>
                          <a:latin typeface="Perpetua"/>
                        </a:rPr>
                        <a:t> 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 </a:t>
                      </a: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DE ENTREGA DE REQUISITOS A DIV. DE ESTUDIOS PROF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       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-9 OCTUBRE</a:t>
                      </a:r>
                      <a:r>
                        <a:rPr b="0" lang="es-MX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CTO PROTOCOLARIO   TITULACION 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   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3  OCTUBRE       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GRONO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4 OCTUBRE            BIOLOGIA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                                   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5 OCTUBRE            IS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                                   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6 OCTUBRE             I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2 Título" descr=""/>
          <p:cNvPicPr/>
          <p:nvPr/>
        </p:nvPicPr>
        <p:blipFill>
          <a:blip r:embed="rId1"/>
          <a:stretch/>
        </p:blipFill>
        <p:spPr>
          <a:xfrm>
            <a:off x="139680" y="115920"/>
            <a:ext cx="886464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"/>
          <p:cNvGraphicFramePr/>
          <p:nvPr/>
        </p:nvGraphicFramePr>
        <p:xfrm>
          <a:off x="0" y="1052640"/>
          <a:ext cx="9109080" cy="580536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5805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SOS QUE DEBES SEG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- SOLICITUD Y ANTEPROYECTO ( ENTREGAR AL JEFE DE CARR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- JEFE (A) DE CARRERA REGISTRA PROYECTO Y ASIGNA REVIS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- JEFE (A) DE CARRERA EXPIDE REGISTRO DE PROYECTO ANEXO XXXII Y LIBERACION DEL PROYECTO ANEXO XXX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- ACUDES AL DEPTO. DE SERVICIOS ESCOLARES REVISION DE DOCUMENTOS Y  PAGOS DE TITUL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- DEPTO. DE SERVICIO ESCOLARES EMITE CONSTANCIA DE NO INCONVEN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- ACUDE A DIVISION DE ESTUDIOS CON DOCUMENTOS INDICADOS PARA PROGRAMAR FECHA DE ACTO PROTOCOLARIO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1 Marcador de número de diapositiva"/>
          <p:cNvSpPr/>
          <p:nvPr/>
        </p:nvSpPr>
        <p:spPr>
          <a:xfrm>
            <a:off x="122400" y="6097680"/>
            <a:ext cx="785520" cy="500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5284-4DC1-426B-9584-D71A4D900C24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2 Rectángulo" descr=""/>
          <p:cNvPicPr/>
          <p:nvPr/>
        </p:nvPicPr>
        <p:blipFill>
          <a:blip r:embed="rId1"/>
          <a:stretch/>
        </p:blipFill>
        <p:spPr>
          <a:xfrm>
            <a:off x="360360" y="500040"/>
            <a:ext cx="8508960" cy="1262160"/>
          </a:xfrm>
          <a:prstGeom prst="rect">
            <a:avLst/>
          </a:prstGeom>
          <a:ln w="0">
            <a:noFill/>
          </a:ln>
        </p:spPr>
      </p:pic>
      <p:pic>
        <p:nvPicPr>
          <p:cNvPr id="613" name="3 Imagen" descr="LogoITH_Mediano.png"/>
          <p:cNvPicPr/>
          <p:nvPr/>
        </p:nvPicPr>
        <p:blipFill>
          <a:blip r:embed="rId2"/>
          <a:stretch/>
        </p:blipFill>
        <p:spPr>
          <a:xfrm>
            <a:off x="2693880" y="1822320"/>
            <a:ext cx="3810240" cy="638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6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108000" y="1844280"/>
            <a:ext cx="8928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HelveticaNeueLT Std Cn"/>
                <a:ea typeface="Tahoma"/>
              </a:rPr>
              <a:t>Establecer el Lineamiento para la Titulación Integral de los estudiantes en los planes y programas de estudio 2009-2010 con un enfoque por competencia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HelveticaNeueLT Std Cn"/>
                <a:ea typeface="Tahoma"/>
              </a:rPr>
              <a:t>profesionales</a:t>
            </a:r>
            <a:r>
              <a:rPr b="0" lang="es-ES" sz="3600" spc="-1" strike="noStrike">
                <a:solidFill>
                  <a:srgbClr val="008000"/>
                </a:solidFill>
                <a:latin typeface="HelveticaNeueLT Std Cn"/>
                <a:ea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6" name="2 Marcador de número de diapositiva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768-67DE-4A45-9C3C-E17AF2761FC9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Marcador de pie de página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12F9-9870-4C97-8E6B-EE35BB8D08C8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  <p:sp>
        <p:nvSpPr>
          <p:cNvPr id="582" name="1 CuadroTexto"/>
          <p:cNvSpPr/>
          <p:nvPr/>
        </p:nvSpPr>
        <p:spPr>
          <a:xfrm>
            <a:off x="642960" y="206064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.3 Del Jefe de Depto. Académico o su equivalente en los Instituto Tecnológicos Descentr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.3.1. Asigna Revisores para 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.3.2. Emite oficio de asignación como revisor del Reporte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.3.3. Emite liberación del informe final del proyecto y lo envía a la División de Estudios Profesionales (Anexo XXXI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849-F435-46E6-B8DC-FBDC65C936C1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  <p:sp>
        <p:nvSpPr>
          <p:cNvPr id="586" name="1 CuadroTexto"/>
          <p:cNvSpPr/>
          <p:nvPr/>
        </p:nvSpPr>
        <p:spPr>
          <a:xfrm>
            <a:off x="324000" y="1413000"/>
            <a:ext cx="83721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4. Del Ase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4.1.  Asesora al estudiante en el proyecto, a partir de que cursa la asignatura de formulación y evaluación de proyectos (o su equivalente) o al ser asignado a una tesis o tesina, hasta terminar el proceso de titulación integ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4.2. Sugiere al estudiante mejoras del contenido y/o presentación del proy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4.3. Emite visto bueno del informe del proyecto, y lo envía al Depto. académico o su equivalente en los institutos Tecnológicos Descentralizados para la designación de los revis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4.4. participa como presidente en el acto protocolario de la Titulación Integ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4.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ide en colaboración con el estudiante la estructura y  el contenido del Informe final considerando las características del tema y el lineamiento vigente. En caso de la Residencia Profesional, deberá ser un tema acorde a su perfil profesional, en cuyo caso no se deberá modificar el Reporte Final de la Residencia Profesional para la titulación integral. (anexo XXVIII Estructura del Reporte Final de Residencia Profes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580-11B9-4318-B27F-E5FBBDEE31D7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"/>
          <a:srcRect l="16233" t="22205" r="14225" b="43287"/>
          <a:stretch/>
        </p:blipFill>
        <p:spPr>
          <a:xfrm>
            <a:off x="108000" y="1628640"/>
            <a:ext cx="85104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A73-E419-4558-BF46-95B0EBB98E95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  <p:sp>
        <p:nvSpPr>
          <p:cNvPr id="594" name="1 CuadroTexto"/>
          <p:cNvSpPr/>
          <p:nvPr/>
        </p:nvSpPr>
        <p:spPr>
          <a:xfrm>
            <a:off x="250920" y="1325520"/>
            <a:ext cx="8642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4.6. De la División de Estudios Profes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6.1. Recibe solicitud del estudiante (anexo XXXI) y turna el proyecto al Jefe de Depto. Académico o su equivalente en los Institutos Tecnológicos Descentra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6.2. Recibe del Depto. de Servicios Escolares la carta de no inconveniencia para la realización del acto protocolario de la Titulación Integ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6.3. Programa fecha del acto protocolario de Titulación Integral e informa al Jefe del Depto. Académico o su equivalente en los Institutos Tecnológicos Descentralizados y al estudi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2C71-FE49-4488-8EE4-AA7B5750939E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2"/>
          <a:srcRect l="16093" t="18469" r="14225" b="29291"/>
          <a:stretch/>
        </p:blipFill>
        <p:spPr>
          <a:xfrm>
            <a:off x="250920" y="1319040"/>
            <a:ext cx="8208720" cy="46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F8B2-90AF-4DAA-B950-5006E6EC7BFE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847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2"/>
          <a:srcRect l="16513" t="44966" r="13668" b="15861"/>
          <a:stretch/>
        </p:blipFill>
        <p:spPr>
          <a:xfrm>
            <a:off x="250920" y="1268280"/>
            <a:ext cx="85564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Marcador de número de diapositiva 3"/>
          <p:cNvSpPr/>
          <p:nvPr/>
        </p:nvSpPr>
        <p:spPr>
          <a:xfrm>
            <a:off x="214200" y="6143760"/>
            <a:ext cx="642960" cy="42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7A6-4971-4E42-8704-C4445947AF2B}" type="slidenum">
              <a:rPr b="1" lang="es-E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Marcador de pie de página 4"/>
          <p:cNvSpPr/>
          <p:nvPr/>
        </p:nvSpPr>
        <p:spPr>
          <a:xfrm>
            <a:off x="914400" y="6172200"/>
            <a:ext cx="772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EurekaSans-Light"/>
              </a:rPr>
              <a:t>Instituto Tecnológico de Hueju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4 Título" descr=""/>
          <p:cNvPicPr/>
          <p:nvPr/>
        </p:nvPicPr>
        <p:blipFill>
          <a:blip r:embed="rId1"/>
          <a:stretch/>
        </p:blipFill>
        <p:spPr>
          <a:xfrm>
            <a:off x="139680" y="285840"/>
            <a:ext cx="886464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"/>
          <p:cNvGraphicFramePr/>
          <p:nvPr/>
        </p:nvGraphicFramePr>
        <p:xfrm>
          <a:off x="0" y="1123920"/>
          <a:ext cx="9144000" cy="5813280"/>
        </p:xfrm>
        <a:graphic>
          <a:graphicData uri="http://schemas.openxmlformats.org/drawingml/2006/table">
            <a:tbl>
              <a:tblPr/>
              <a:tblGrid>
                <a:gridCol w="2098800"/>
                <a:gridCol w="7045200"/>
              </a:tblGrid>
              <a:tr h="52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CTURA DEL REPORTE FINAL DE RESIDENCIA PROFES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9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limin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Port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Agradecimi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Resu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Índ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71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dades del proye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Int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Descripción de la empresa u organización y del puesto o    área del trabajo del estudian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Problemas a resolver, priorizándol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Objetivos (General y Específic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 Just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o teór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Marco Teórico (fundamentos teóric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9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arro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Procedimiento y descripción de las actividades realiza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90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Resultados, planos, gráficas, prototipos, manuales, programas, análisis estadísticos, modelos matemáticos, simulaciones, normatividades, regulaciones y restricciones, entre otros. Solo para proyectos que por su naturaleza lo requieran: estudio técnico y estudio económ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 Actividades Sociales realizadas en la empresa u organización (si es el cas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Conclusiones del Proyecto, recomendaciones y experiencia personal y profesional adquiri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50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encias desarrolla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 Competencias desarrolladas y/o aplica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s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 Fuentes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63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Anexos (carta de autorización por parte de la empresa u organización para la titulación y otros si son necesar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 Registros de Productos (patentes, derecho de autor, compra-venta del proyecto.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18:09Z</dcterms:created>
  <dc:creator>Particular</dc:creator>
  <dc:description/>
  <dc:language>en-US</dc:language>
  <cp:lastModifiedBy>DIVISIÓN DE ESTUDIOS</cp:lastModifiedBy>
  <cp:lastPrinted>2022-02-14T14:56:28Z</cp:lastPrinted>
  <dcterms:modified xsi:type="dcterms:W3CDTF">2023-08-24T15:59:43Z</dcterms:modified>
  <cp:revision>897</cp:revision>
  <dc:subject/>
  <dc:title>Diapositiva 1</dc:title>
</cp:coreProperties>
</file>